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0B2F-4F5F-4ED3-A064-EC84A22DD8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0A9F-3FE3-4818-A9CF-C8DA9D2C5E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1661-3993-4F8B-9254-DBCFA10761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2D39-1818-4640-82F5-05A9811212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52BA-21C6-4BBB-86AE-0A62AA7A99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C9DC-7C61-4CD6-81ED-52AA2C8026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820-483C-44BF-93C2-A5D3671F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4806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C63-4B22-4429-B7B4-32596D13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704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722-F3D5-4DDD-90ED-FCA339FC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992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316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992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316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A13-8530-4132-8A20-B51F5F06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D169-0737-42B4-8B12-8EAEF683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6B7D-1175-4997-83D8-C4223F66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6202-5846-4886-898C-76ACB847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9A5C-2C51-47AB-B379-1C988109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FABB-8D0F-420C-BC5F-EAEA5255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5904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583C-EE5A-4927-AC65-059A0E12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04CC-5A30-4636-B5E9-B332724A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76E-390B-40D7-966F-4DAF5B4C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704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8045-4DCE-4DBC-81AC-5311C8B8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55E3-997E-4491-86ED-0EA6D347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4806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432C-0FE5-49DC-90A7-081DF4D9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704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E6D8-9489-474F-AD9B-B28E93BA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7992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9316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7992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9316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F635-A973-40EA-BFB1-64CCB388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A7F-B3D5-4D9D-97AF-0AFAD357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AC0-CB30-424F-A609-0ADBDFBF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B46-DE79-4194-82DD-252085D5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5904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546-3D1B-472B-9B80-B328A97B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055-135B-4BE3-8AC3-7BFD87E4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704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41F-2676-40DC-8341-661D86E1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0F4-20E0-4FB1-A64D-DF855D92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12800" cy="6846840"/>
            </a:xfrm>
            <a:prstGeom prst="pie">
              <a:avLst/>
            </a:pr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70DC-58C6-4846-86D6-B400A96E0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45" name="Rectangle 3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12800" cy="6846840"/>
            </a:xfrm>
            <a:prstGeom prst="pie">
              <a:avLst/>
            </a:pr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4FB6-4385-4340-8C19-99BE62DE73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5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hapter 15</a:t>
            </a:r>
            <a:br>
              <a:rPr sz="36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ECESSION AND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CIVIL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vine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ee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Fredrickso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William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85800" y="6578640"/>
            <a:ext cx="845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80880" y="228600"/>
            <a:ext cx="83822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2800"/>
                </a:solidFill>
                <a:latin typeface="BilboDisplay"/>
              </a:rPr>
              <a:t>Lincoln’s Gener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66960" y="5272200"/>
            <a:ext cx="2209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Irwin McDow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81160" y="4890960"/>
            <a:ext cx="2361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Winfield Sco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386320" y="606420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George McClellan,</a:t>
            </a:r>
            <a:br>
              <a:rPr sz="1800"/>
            </a:br>
            <a:r>
              <a:rPr b="1" lang="en-US" sz="1800" spc="-1" strike="noStrike">
                <a:solidFill>
                  <a:srgbClr val="d42800"/>
                </a:solidFill>
                <a:latin typeface="Arial"/>
              </a:rPr>
              <a:t>Agai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6" descr="Standing_Winfield_Scot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57120" y="1309680"/>
            <a:ext cx="2238480" cy="3581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9" name="Picture 17" descr="Irwin McDowell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66960" y="1614600"/>
            <a:ext cx="2209680" cy="3657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0" name="Picture 4" descr="GeorgeMcClellan"/>
          <p:cNvPicPr/>
          <p:nvPr/>
        </p:nvPicPr>
        <p:blipFill>
          <a:blip r:embed="rId3"/>
          <a:srcRect l="8748" t="0" r="8110" b="1972"/>
          <a:stretch/>
        </p:blipFill>
        <p:spPr>
          <a:xfrm>
            <a:off x="1728720" y="1919160"/>
            <a:ext cx="2208240" cy="3581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1" name="Text Box 6"/>
          <p:cNvSpPr/>
          <p:nvPr/>
        </p:nvSpPr>
        <p:spPr>
          <a:xfrm>
            <a:off x="1728720" y="5500800"/>
            <a:ext cx="2210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George </a:t>
            </a: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McClel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567160" y="6033960"/>
            <a:ext cx="2514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Ambrose Burn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5" descr="Ambrose_Everett_Burnsid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719440" y="2452680"/>
            <a:ext cx="2217600" cy="3581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4" name="Text Box 12"/>
          <p:cNvSpPr/>
          <p:nvPr/>
        </p:nvSpPr>
        <p:spPr>
          <a:xfrm>
            <a:off x="3710160" y="5119560"/>
            <a:ext cx="2590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Joseph Hoo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9" descr="Hooker_joseph"/>
          <p:cNvPicPr/>
          <p:nvPr/>
        </p:nvPicPr>
        <p:blipFill>
          <a:blip r:embed="rId5"/>
          <a:srcRect l="2713" t="0" r="7692" b="0"/>
          <a:stretch/>
        </p:blipFill>
        <p:spPr>
          <a:xfrm>
            <a:off x="3633840" y="1461960"/>
            <a:ext cx="2630520" cy="3657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6" name="Picture 18" descr="George_Gordon_Meade"/>
          <p:cNvPicPr/>
          <p:nvPr/>
        </p:nvPicPr>
        <p:blipFill>
          <a:blip r:embed="rId6"/>
          <a:stretch/>
        </p:blipFill>
        <p:spPr>
          <a:xfrm>
            <a:off x="4624560" y="1843200"/>
            <a:ext cx="2361960" cy="3657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7" name="Text Box 10"/>
          <p:cNvSpPr/>
          <p:nvPr/>
        </p:nvSpPr>
        <p:spPr>
          <a:xfrm>
            <a:off x="4624560" y="5500800"/>
            <a:ext cx="2346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George Me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0" descr="GeorgeMcClellan"/>
          <p:cNvPicPr/>
          <p:nvPr/>
        </p:nvPicPr>
        <p:blipFill>
          <a:blip r:embed="rId7"/>
          <a:srcRect l="8748" t="0" r="8110" b="1972"/>
          <a:stretch/>
        </p:blipFill>
        <p:spPr>
          <a:xfrm>
            <a:off x="5386320" y="2514600"/>
            <a:ext cx="2208240" cy="3581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9" name="Text Box 13"/>
          <p:cNvSpPr/>
          <p:nvPr/>
        </p:nvSpPr>
        <p:spPr>
          <a:xfrm>
            <a:off x="6529320" y="5195880"/>
            <a:ext cx="228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Ulysses S. Gr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4" descr="US Grant"/>
          <p:cNvPicPr/>
          <p:nvPr/>
        </p:nvPicPr>
        <p:blipFill>
          <a:blip r:embed="rId8"/>
          <a:stretch/>
        </p:blipFill>
        <p:spPr>
          <a:xfrm>
            <a:off x="6605640" y="1614600"/>
            <a:ext cx="2233440" cy="3600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80880" y="289080"/>
            <a:ext cx="838224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42800"/>
                </a:solidFill>
                <a:latin typeface="BilboDisplay"/>
              </a:rPr>
              <a:t>The Confederate General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181480" y="5486400"/>
            <a:ext cx="228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Jeb Stu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590920" y="5867280"/>
            <a:ext cx="2209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James Longstr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523880" y="5181480"/>
            <a:ext cx="228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George Pick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04920" y="4572000"/>
            <a:ext cx="2590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Stonewall” Jack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8" descr="Jackson-Stonewall-LOC"/>
          <p:cNvPicPr/>
          <p:nvPr/>
        </p:nvPicPr>
        <p:blipFill>
          <a:blip r:embed="rId1"/>
          <a:srcRect l="10089" t="6331" r="9200" b="7124"/>
          <a:stretch/>
        </p:blipFill>
        <p:spPr>
          <a:xfrm>
            <a:off x="304920" y="1143000"/>
            <a:ext cx="2616120" cy="33526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7" name="Picture 20" descr="General_George_Pickett"/>
          <p:cNvPicPr/>
          <p:nvPr/>
        </p:nvPicPr>
        <p:blipFill>
          <a:blip r:embed="rId2"/>
          <a:stretch/>
        </p:blipFill>
        <p:spPr>
          <a:xfrm>
            <a:off x="1523880" y="1828800"/>
            <a:ext cx="2265480" cy="33526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8" name="Picture 17" descr="James_Longstreet"/>
          <p:cNvPicPr/>
          <p:nvPr/>
        </p:nvPicPr>
        <p:blipFill>
          <a:blip r:embed="rId3"/>
          <a:stretch/>
        </p:blipFill>
        <p:spPr>
          <a:xfrm>
            <a:off x="2590920" y="2514600"/>
            <a:ext cx="2174760" cy="3392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9" name="Picture 15" descr="Nathan Bedford Forest"/>
          <p:cNvPicPr/>
          <p:nvPr/>
        </p:nvPicPr>
        <p:blipFill>
          <a:blip r:embed="rId4"/>
          <a:stretch/>
        </p:blipFill>
        <p:spPr>
          <a:xfrm>
            <a:off x="4114800" y="1219320"/>
            <a:ext cx="2293920" cy="33526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50" name="Text Box 7"/>
          <p:cNvSpPr/>
          <p:nvPr/>
        </p:nvSpPr>
        <p:spPr>
          <a:xfrm>
            <a:off x="4191120" y="4572000"/>
            <a:ext cx="228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Nathan Bedford Forr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6" descr="Jeb_stuart"/>
          <p:cNvPicPr/>
          <p:nvPr/>
        </p:nvPicPr>
        <p:blipFill>
          <a:blip r:embed="rId5"/>
          <a:srcRect l="2016" t="0" r="5331" b="2274"/>
          <a:stretch/>
        </p:blipFill>
        <p:spPr>
          <a:xfrm>
            <a:off x="5181480" y="2057400"/>
            <a:ext cx="2362320" cy="33526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52" name="Text Box 9"/>
          <p:cNvSpPr/>
          <p:nvPr/>
        </p:nvSpPr>
        <p:spPr>
          <a:xfrm>
            <a:off x="6324480" y="6248520"/>
            <a:ext cx="228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Robert E. L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4" descr="Robert E Lee"/>
          <p:cNvPicPr/>
          <p:nvPr/>
        </p:nvPicPr>
        <p:blipFill>
          <a:blip r:embed="rId6"/>
          <a:stretch/>
        </p:blipFill>
        <p:spPr>
          <a:xfrm>
            <a:off x="6114960" y="2895480"/>
            <a:ext cx="2724120" cy="33530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8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385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38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38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38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385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38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38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Overview of Civil War Strateg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55" name="Picture 4" descr="DIVI7233303"/>
          <p:cNvPicPr/>
          <p:nvPr/>
        </p:nvPicPr>
        <p:blipFill>
          <a:blip r:embed="rId1"/>
          <a:stretch/>
        </p:blipFill>
        <p:spPr>
          <a:xfrm>
            <a:off x="2971800" y="1752480"/>
            <a:ext cx="3881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aconda Pla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57" name="Content Placeholder 3" descr="300px-Scott-anaconda.jpeg"/>
          <p:cNvPicPr/>
          <p:nvPr/>
        </p:nvPicPr>
        <p:blipFill>
          <a:blip r:embed="rId1"/>
          <a:srcRect l="-4044" t="0" r="-4044" b="0"/>
          <a:stretch/>
        </p:blipFill>
        <p:spPr>
          <a:xfrm>
            <a:off x="1066680" y="1981080"/>
            <a:ext cx="77295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obilizing the Home Front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2: North and South begin con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mob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e war through taxes, bonds, paper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 industry supplies Union armie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derate mob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arsenals supply Confederate ar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orts to finance lead to runaway inf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ation system in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80880" y="547560"/>
            <a:ext cx="8458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2800"/>
                </a:solidFill>
                <a:latin typeface="BilboDisplay"/>
              </a:rPr>
              <a:t>Inflation in the Sou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chart-Inflation in the South - 1860-1863"/>
          <p:cNvPicPr/>
          <p:nvPr/>
        </p:nvPicPr>
        <p:blipFill>
          <a:blip r:embed="rId1"/>
          <a:srcRect l="0" t="8152" r="0" b="0"/>
          <a:stretch/>
        </p:blipFill>
        <p:spPr>
          <a:xfrm>
            <a:off x="2362320" y="1844640"/>
            <a:ext cx="4572000" cy="3718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olitical Leadership: Northern Success and Southern Failur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729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expands wartime pow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ares martial la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pension of habeas cor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isons 10,000 "subversives" without 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ly closed down a few news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fferson Da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ed mainly with military du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lects civilian morale,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s influence with state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NO view of Jeff Davis"/>
          <p:cNvPicPr/>
          <p:nvPr/>
        </p:nvPicPr>
        <p:blipFill>
          <a:blip r:embed="rId1"/>
          <a:srcRect l="0" t="0" r="1002" b="2747"/>
          <a:stretch/>
        </p:blipFill>
        <p:spPr>
          <a:xfrm>
            <a:off x="1143000" y="1219320"/>
            <a:ext cx="7238880" cy="51735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arly Campaigns and Battl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achievements by 186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naval suprem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derate troops cleared from West Virginia, Kentucky, much of Tenness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leans captu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derate achievements by 186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ll campaign for the Mississippi at Shil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d Richmond from cap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DIVI7233308"/>
          <p:cNvPicPr/>
          <p:nvPr/>
        </p:nvPicPr>
        <p:blipFill>
          <a:blip r:embed="rId1"/>
          <a:stretch/>
        </p:blipFill>
        <p:spPr>
          <a:xfrm>
            <a:off x="3048120" y="1905120"/>
            <a:ext cx="3655800" cy="46479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2880" y="590400"/>
            <a:ext cx="3276720" cy="2533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ivil War, 1861-1862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Deep South Seced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9520" y="1980720"/>
            <a:ext cx="830412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20,1860: South Carolina sec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, 1861: Confederate States of America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d South Carolina, Georgia, Florida, Alabama, Mississippi, Louisiana, and Tex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Diplomatic Struggl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68816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ligerent rights extended to Confedera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s: Recognition of independence on proof that South can win indepen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e: Confederacy not recognized unless England does so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King Cotton" has little influence on foreign policy of other n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ight to the Finish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dopts radical measures to w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3: War turns against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Coming of Emancipa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64480" cy="521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22, 1862: Antietam prompts preliminary Emancipation Proclam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ender in 100 days or lose sla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1, 1863: Proclamation put into effect for area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ill in rebe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Americans flee to Union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90" name="Content Placeholder 3" descr="EmancipationProclamationDec.jpeg"/>
          <p:cNvPicPr/>
          <p:nvPr/>
        </p:nvPicPr>
        <p:blipFill>
          <a:blip r:embed="rId1"/>
          <a:srcRect l="-42035" t="0" r="-42035" b="0"/>
          <a:stretch/>
        </p:blipFill>
        <p:spPr>
          <a:xfrm>
            <a:off x="1066680" y="1828800"/>
            <a:ext cx="69501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frican Americans and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436840"/>
            <a:ext cx="7840800" cy="491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,000 African American Union tr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unit = 5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ssachuset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thers labor in Northern war ef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pushes further for black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s governments in conquered Southern states that abolish slav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land, Missouri abolish slav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uary 31, 1865: 13th Amendment pa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96" name="Content Placeholder 3" descr="images.jpeg"/>
          <p:cNvPicPr/>
          <p:nvPr/>
        </p:nvPicPr>
        <p:blipFill>
          <a:blip r:embed="rId1"/>
          <a:srcRect l="-3488" t="0" r="-3488" b="0"/>
          <a:stretch/>
        </p:blipFill>
        <p:spPr>
          <a:xfrm>
            <a:off x="1066680" y="1981080"/>
            <a:ext cx="68202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Tide Tur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4920" y="1904760"/>
            <a:ext cx="7612200" cy="544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, 1863: War-wear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York riots against con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nt bogged down at Vicksbur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on defeated at Chancellorsv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s - “Copperheads” attack Linco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y, 18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 invasion of North fails at Battle of Getty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cksburg falls, North holds the Mississi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Last Stages of the Conflic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9, 1864: Grant made supreme commander of Union ar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on invades the South on all fro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iam Sherman marches through Geor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 lays siege to Richmond, Petersb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, 2: Sherman takes Atla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, 8: Lincoln re-ele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General Grant in Virginia"/>
          <p:cNvPicPr/>
          <p:nvPr/>
        </p:nvPicPr>
        <p:blipFill>
          <a:blip r:embed="rId1"/>
          <a:stretch/>
        </p:blipFill>
        <p:spPr>
          <a:xfrm>
            <a:off x="3505320" y="1523880"/>
            <a:ext cx="29829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lection of 1864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990720" y="2057400"/>
            <a:ext cx="769608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didat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pular Vot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oral Vo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ncol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publica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,213,655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cClella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mocratic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,805,237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2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Out of a total of 233 electoral votes. The eleven secessionist states—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abama, Arkansas, Florida, Georgia, Louisiana, Mississippi, Nor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olina, South Carolina, Tennessee, Texas, and Virginia—did not vo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ecess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99" name="Picture 4" descr="DIVI7233299"/>
          <p:cNvPicPr/>
          <p:nvPr/>
        </p:nvPicPr>
        <p:blipFill>
          <a:blip r:embed="rId1"/>
          <a:stretch/>
        </p:blipFill>
        <p:spPr>
          <a:xfrm>
            <a:off x="914400" y="1905120"/>
            <a:ext cx="8001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6320" y="228600"/>
            <a:ext cx="90676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42800"/>
                </a:solidFill>
                <a:latin typeface="BilboDisplay"/>
              </a:rPr>
              <a:t>The Peace Movement:  Copperhea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KGC"/>
          <p:cNvPicPr/>
          <p:nvPr/>
        </p:nvPicPr>
        <p:blipFill>
          <a:blip r:embed="rId1">
            <a:lum contrast="6000"/>
          </a:blip>
          <a:srcRect l="2162" t="1448" r="2569" b="1448"/>
          <a:stretch/>
        </p:blipFill>
        <p:spPr>
          <a:xfrm>
            <a:off x="5257800" y="1219320"/>
            <a:ext cx="3352680" cy="5105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12" name="Picture 4" descr="Clement_Vallandigham_-_Brady-Handy"/>
          <p:cNvPicPr/>
          <p:nvPr/>
        </p:nvPicPr>
        <p:blipFill>
          <a:blip r:embed="rId2"/>
          <a:srcRect l="0" t="1354" r="876" b="2702"/>
          <a:stretch/>
        </p:blipFill>
        <p:spPr>
          <a:xfrm>
            <a:off x="914400" y="1219320"/>
            <a:ext cx="3178080" cy="4800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213" name="Text Box 5"/>
          <p:cNvSpPr/>
          <p:nvPr/>
        </p:nvSpPr>
        <p:spPr>
          <a:xfrm>
            <a:off x="914400" y="6095880"/>
            <a:ext cx="3200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Comic Sans MS"/>
              </a:rPr>
              <a:t>Clement Vallandigh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380880" y="272880"/>
            <a:ext cx="78487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2800"/>
                </a:solidFill>
                <a:latin typeface="BilboDisplay"/>
              </a:rPr>
              <a:t>1864 Copperhead Campaign Pos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Copperhead pamphlet - 1864"/>
          <p:cNvPicPr/>
          <p:nvPr/>
        </p:nvPicPr>
        <p:blipFill>
          <a:blip r:embed="rId1"/>
          <a:srcRect l="4612" t="4283" r="3170" b="5713"/>
          <a:stretch/>
        </p:blipFill>
        <p:spPr>
          <a:xfrm>
            <a:off x="2743200" y="1219320"/>
            <a:ext cx="3289320" cy="51814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80880" y="228600"/>
            <a:ext cx="838224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42800"/>
                </a:solidFill>
                <a:latin typeface="BilboDisplay"/>
              </a:rPr>
              <a:t>Cartoon Lampoons Democratic Copperheads in 186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pol_cartoon-lampooning Copperhead Dems -1864"/>
          <p:cNvPicPr/>
          <p:nvPr/>
        </p:nvPicPr>
        <p:blipFill>
          <a:blip r:embed="rId1"/>
          <a:srcRect l="3809" t="0" r="4763" b="0"/>
          <a:stretch/>
        </p:blipFill>
        <p:spPr>
          <a:xfrm>
            <a:off x="1523880" y="1752480"/>
            <a:ext cx="6019920" cy="47037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DIVI7233314"/>
          <p:cNvPicPr/>
          <p:nvPr/>
        </p:nvPicPr>
        <p:blipFill>
          <a:blip r:embed="rId1"/>
          <a:stretch/>
        </p:blipFill>
        <p:spPr>
          <a:xfrm>
            <a:off x="3048120" y="1905120"/>
            <a:ext cx="3605040" cy="4572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76560" y="590400"/>
            <a:ext cx="3886200" cy="2533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ivil War, 1863-1865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Last Stages of the Conflict</a:t>
            </a: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0880" y="2133720"/>
            <a:ext cx="7515000" cy="491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rman’s March to the sea through Geor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ched earth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, 1865: Grant takes Richmo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9, 1865: Lee surrenders at Appomatt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4, 1865: Lincoln assassinated by John Wilkes Bo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of conspiracy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3" descr="booth"/>
          <p:cNvPicPr/>
          <p:nvPr/>
        </p:nvPicPr>
        <p:blipFill>
          <a:blip r:embed="rId1"/>
          <a:stretch/>
        </p:blipFill>
        <p:spPr>
          <a:xfrm>
            <a:off x="990720" y="1219320"/>
            <a:ext cx="3066840" cy="5438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LincolnAssassination640"/>
          <p:cNvPicPr/>
          <p:nvPr/>
        </p:nvPicPr>
        <p:blipFill>
          <a:blip r:embed="rId2"/>
          <a:stretch/>
        </p:blipFill>
        <p:spPr>
          <a:xfrm>
            <a:off x="4952880" y="1219320"/>
            <a:ext cx="369576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3" descr="528"/>
          <p:cNvPicPr/>
          <p:nvPr/>
        </p:nvPicPr>
        <p:blipFill>
          <a:blip r:embed="rId1"/>
          <a:stretch/>
        </p:blipFill>
        <p:spPr>
          <a:xfrm>
            <a:off x="2362320" y="1523880"/>
            <a:ext cx="510516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ffects of the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538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18,000 troops d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eft women seek non-domestic r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million African Americans free, not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ial workers face wartime inf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asualties of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38" name="Picture 6" descr="DIVI308"/>
          <p:cNvPicPr/>
          <p:nvPr/>
        </p:nvPicPr>
        <p:blipFill>
          <a:blip r:embed="rId1"/>
          <a:stretch/>
        </p:blipFill>
        <p:spPr>
          <a:xfrm>
            <a:off x="1066680" y="2286000"/>
            <a:ext cx="777240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ffects of the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756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government predominant ove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government takes activist role in the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tariffs, free land, national banking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Deep South Secedes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derate constitution resembles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restore pre-Republican Party Un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ers hope to attract Northern states into Confede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n Organizational Revolution</a:t>
            </a: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2211120"/>
            <a:ext cx="772956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 bureaucratic state eme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ism gives way to organized, cooperative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yst for transformation of American society in the late nineteen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Failure of Compromis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tenden Plan: Extend the Missouri Compromise line to the Pa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rejects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d the War Cam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seeks action to preserve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3, 1861: Fort Sumter, S.C,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–May: Upper South sec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der states: Slave states remain i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defined as effort to preserve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justing to Total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must win by destroying will to res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War: a test of societies, economies, political systems as well as ar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sources of the Union and the Confederacy, 1861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19" name="Picture 8" descr="DIVI293"/>
          <p:cNvPicPr/>
          <p:nvPr/>
        </p:nvPicPr>
        <p:blipFill>
          <a:blip r:embed="rId1"/>
          <a:stretch/>
        </p:blipFill>
        <p:spPr>
          <a:xfrm>
            <a:off x="914400" y="2362320"/>
            <a:ext cx="8001000" cy="38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spects, Plans, and Expectatio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2436840"/>
            <a:ext cx="7729560" cy="491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adopts defensive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adopts two-front strate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ture Confederate capital, Richmond, 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conda Pla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ize control of the Mississippi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loy navy to blockade Southern 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8:17:17Z</dcterms:created>
  <dc:creator>CMU</dc:creator>
  <dc:description/>
  <cp:keywords/>
  <dc:language>en-US</dc:language>
  <cp:lastModifiedBy>Matthew Myers</cp:lastModifiedBy>
  <cp:lastPrinted>2011-08-16T00:38:00Z</cp:lastPrinted>
  <dcterms:modified xsi:type="dcterms:W3CDTF">2011-11-16T18:55:05Z</dcterms:modified>
  <cp:revision>13</cp:revision>
  <dc:subject/>
  <dc:title>SECESSION AND THE CIVIL WAR</dc:title>
</cp:coreProperties>
</file>